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7F0D-ADFB-40C6-851D-C4B9281B8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36BA-6B06-407B-BC9B-83CFAFBFF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74F8-D354-4CAD-970E-2AF751CA7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8867-3401-4E3E-A822-223D315B6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D588-8282-4811-97D3-B614077A1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E055-9EA3-4B8F-85D5-A843A434F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B664-686E-4D1A-9767-5A384A31E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9B3A-2754-40F2-BDD1-5F0F187F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3B94-A796-44FE-8C1B-544FAF1A1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A2FA-A8A0-4CB0-BED3-692D6D48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DCB6-F427-4868-96F4-422E6E7B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17A9-FE9F-4EF4-8FCF-ED8177F5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32E93-E75C-42A0-AD1F-76CF471A680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indianfoodsite.com/images/bread_and_rice-im/roti-chapati.jpg&amp;imgrefurl=http://www.indianfoodsite.com/breads_indian_tandoori_roti.htm&amp;usg=__7FJdxe5vHCDd0ZcLPFQLzMSrYDk=&amp;h=350&amp;w=424&amp;sz=152&amp;hl=en&amp;start=6&amp;zoom=1&amp;itbs=1&amp;tbnid=hpoSR7tTcyFdrM:&amp;tbnh=104&amp;tbnw=126&amp;prev=/images%3Fq%3Droti%26hl%3Den%26safe%3Dactive%26gbv%3D2%26tbs%3Disch:1&amp;ei=clFMTd-GDIa0lQf5zNH7Dw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www.google.com/imgres?imgurl=http://images.bradspictures.com/bpictures/c/callaloo_soup-12991.jpg&amp;imgrefurl=http://www.bradspictures.com/food/12991/callaloo%2Bsoup.html&amp;usg=__LObqC0tRDJJL0GfDbUeccUW3Xa4=&amp;h=359&amp;w=510&amp;sz=63&amp;hl=en&amp;start=4&amp;zoom=1&amp;itbs=1&amp;tbnid=k8bCIqXxepyPiM:&amp;tbnh=92&amp;tbnw=131&amp;prev=/images%3Fq%3Dcallaloo%2Bsoup%26hl%3Den%26safe%3Dactive%26gbv%3D2%26tbs%3Disch:1&amp;ei=j1FMTcW9HYH7lwfjkJDzDw" TargetMode="External"/><Relationship Id="rId4" Type="http://schemas.openxmlformats.org/officeDocument/2006/relationships/image" Target="../media/image19.jpeg"/><Relationship Id="rId5" Type="http://schemas.openxmlformats.org/officeDocument/2006/relationships/hyperlink" Target="http://www.google.com/imgres?imgurl=http://www.saveens.com/wp-content/uploads/2010/10/Jerk-Chicken-2.jpg&amp;imgrefurl=http://www.saveens.com/archives/771&amp;usg=__QtQjayjvcfjhlDgxZgZkPLvbEFY=&amp;h=423&amp;w=440&amp;sz=239&amp;hl=en&amp;start=2&amp;zoom=1&amp;itbs=1&amp;tbnid=XUa2lnKpTyvXUM:&amp;tbnh=122&amp;tbnw=127&amp;prev=/images%3Fq%3Djerk%2Bchicken%26hl%3Den%26safe%3Dactive%26gbv%3D2%26tbs%3Disch:1&amp;ei=t1FMTfXVIcWblgf1xannDw" TargetMode="External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eneticarchaeology.com/Images/04-07LizardBuckleyLrg.jpg" TargetMode="External"/><Relationship Id="rId2" Type="http://schemas.openxmlformats.org/officeDocument/2006/relationships/hyperlink" Target="http://thundafunda.com/33/underwater-animals-fish/Caribbean%20Blue%20Angelfish,%20Gulf%20Of%20Mexico%20pictures%20underwater%20photos.php" TargetMode="External"/><Relationship Id="rId3" Type="http://schemas.openxmlformats.org/officeDocument/2006/relationships/hyperlink" Target="http://lh4.ggpht.com/_i9kNsv7OS24/Sdjuwy2IQKI/AAAAAAAABW4/FTXm_Hf0qxU/Hawaiian_Monk_Seal_photo.jpg" TargetMode="External"/><Relationship Id="rId4" Type="http://schemas.openxmlformats.org/officeDocument/2006/relationships/hyperlink" Target="http://en.wikipedia.org/wiki/Anolis" TargetMode="External"/><Relationship Id="rId5" Type="http://schemas.openxmlformats.org/officeDocument/2006/relationships/hyperlink" Target="http://en.wikipedia.org/wiki/Caribbean_Monk_Seal" TargetMode="External"/><Relationship Id="rId6" Type="http://schemas.openxmlformats.org/officeDocument/2006/relationships/hyperlink" Target="http://en.wikipedia.org/wiki/Bermuda_blue_angelfish" TargetMode="External"/><Relationship Id="rId7" Type="http://schemas.openxmlformats.org/officeDocument/2006/relationships/hyperlink" Target="http://en.wikipedia.org/wiki/Politics_of_Jamica" TargetMode="External"/><Relationship Id="rId8" Type="http://schemas.openxmlformats.org/officeDocument/2006/relationships/hyperlink" Target="http://www.caribbeaninspired.com/caribbean/books/caribbean-literature4.htm#ferre" TargetMode="External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thundafunda.com/33/underwater-animals-fish/Caribbean%20Blue%20Angelfish,%20Gulf%20Of%20Mexico%20pictures%20underwater%20photos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allpapers-diq.org/wallpapers/42/Cap_Juluca,_Maunday&apos;s_Bay,_Anguilla,_Caribbean.jpg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aribbeaninspired.com/caribbean/books/caribbean-literature4.htm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caribbeaninspired.com/caribbean/books/caribbean-literature3.htm" TargetMode="External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corbisimages.com/images/67/9198B83D-B5FB-4E55-BFDA-6FAC94337899/JR004438.jpg&amp;imgrefurl=http://www.corbisimages.com/Enlargement/JR004438.html&amp;usg=__9IuMt146vJVcNnG9c7Px_aC1BKM=&amp;h=431&amp;w=640&amp;sz=72&amp;hl=en&amp;start=15&amp;zoom=1&amp;itbs=1&amp;tbnid=b3u6Ia40UfArnM:&amp;tbnh=92&amp;tbnw=137&amp;prev=/images%3Fq%3Dswimming%2Bwith%2Bstingrays%26hl%3Den%26safe%3Dactive%26gbv%3D2%26tbs%3Disch:1&amp;ei=6FJMTdmGHYSKlwfN5djtDw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www.google.com/imgres?imgurl=http://www.casarioblanco.com/rainforest-2.jpg&amp;imgrefurl=http://www.casarioblanco.com/rainforest.html&amp;usg=__6NdJjRsSVfMfAkByZCc7qp26NPs=&amp;h=450&amp;w=450&amp;sz=41&amp;hl=en&amp;start=6&amp;zoom=1&amp;itbs=1&amp;tbnid=Ok1u4bseKSXHlM:&amp;tbnh=127&amp;tbnw=127&amp;prev=/images%3Fq%3Drain%2Bforest%26hl%3Den%26safe%3Dactive%26gbv%3D2%26tbs%3Disch:1&amp;ei=AFNMTaa-GIXGlQeVyaHyDw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www.google.com/imgres?imgurl=http://www.jazz.dominica-weekly.com/wp-content/uploads/2009/02/st-lucia-jazz-2009.jpg&amp;imgrefurl=http://www.jazz.dominica-weekly.com/st-lucia-jazz-festival-2009/&amp;usg=__cBECRct7KPQcq7orhrrcGtG_OjI=&amp;h=422&amp;w=500&amp;sz=31&amp;hl=en&amp;start=1&amp;zoom=1&amp;itbs=1&amp;tbnid=ybxVhY8OlQeHMM:&amp;tbnh=110&amp;tbnw=130&amp;prev=/images%3Fq%3DSt.%2BLucia%2Bjazz%2Bfestival%26hl%3Den%26safe%3Dactive%26gbv%3D2%26tbs%3Disch:1&amp;ei=GlNMTeymEIOdlgfL5tzpDw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google.com/imgres?imgurl=http://www.fullissue.com/wp-content/uploads/2010/04/CARIBBEAN.jpg&amp;imgrefurl=http://www.fullissue.com/index.php/history-of-the-caribbean-west-indies.html&amp;usg=__Hcb2ZgYxLAcKOi5UidjQLdJnSDs=&amp;h=317&amp;w=400&amp;sz=48&amp;hl=en&amp;start=10&amp;zoom=1&amp;itbs=1&amp;tbnid=HvOmaL867FPq8M:&amp;tbnh=98&amp;tbnw=124&amp;prev=/images%3Fq%3Dcaribbean%2Bhistory%26hl%3Den%26safe%3Dactive%26gbv%3D2%26tbs%3Disch:1&amp;ei=w1JMTa3NHoO0lQeGiNnrDw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ibbe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: Nichole Torgers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nnah We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ogra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’s a chain of isla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c la Selle is the highest peak in Haiti. It is 8,793 feet above sea lev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re many volcanoes found on the isla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Jerk chicken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usually made with pork or chicken and a Jamaican dry-rub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llaloo Soup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made from dasheen lea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oti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from India and includes curries and sp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5" descr="http://t2.gstatic.com/images?q=tbn:ANd9GcQjR-JsA1epJdvrN0ODIOhP5wtOpwPMhXPqr5QTRJ7Edcyx_sXlNpYQsg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4495680"/>
            <a:ext cx="175428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http://t2.gstatic.com/images?q=tbn:ANd9GcToIn8CfMTxrbmXEd7o0dpHZwS-_Ozp_c0oJMRzC3yeoF_W7CWuohegkS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10080" y="3124080"/>
            <a:ext cx="1676520" cy="1177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http://t2.gstatic.com/images?q=tbn:ANd9GcQo4SInyuVkitXePiGr8hspk0zJME_5ILJkEZJ9WczOp8YS3HXoeNruP8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486400" y="1523880"/>
            <a:ext cx="144792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geneticarchaeology.com/Images/04-07LizardBuckleyLrg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thundafunda.com/33/underwater-animals-fish/Caribbean%20Blue%20Angelfish,%20Gulf%20Of%20Mexico%20pictures%20underwater%20photos.ph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lh4.ggpht.com/_i9kNsv7OS24/Sdjuwy2IQKI/AAAAAAAABW4/FTXm_Hf0qxU/Hawaiian_Monk_Seal_photo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en.wikipedia.org/wiki/Anol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en.wikipedia.org/wiki/Caribbean_Monk_Se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en.wikipedia.org/wiki/Bermuda_blue_angelfis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en.wikipedia.org/wiki/Politics_of_Jamic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www.caribbeaninspired.com/caribbean/books/caribbean-literature4.htm#fer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caribbean-guide.info/past.and.present/culture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sdestination360.com/caribbean/things-to-d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listverse.com/2010/03/18/10-interesting-facts-about-the-caribbe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en.wikipedia.org/wiki/History_of_the_caribbe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im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ue Angelfish: they can live up to 20 yea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k Seal: this animal is extinc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olis Lizard: there are 400 different speci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aribbean Blue Angelfish, Gulf Of Mexico pictures underwater photos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81480" y="1676520"/>
            <a:ext cx="2032200" cy="1525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http://lh4.ggpht.com/_i9kNsv7OS24/Sdjuwy2IQKI/AAAAAAAABW4/FTXm_Hf0qxU/Hawaiian_Monk_Seal_photo.jpg"/>
          <p:cNvPicPr/>
          <p:nvPr/>
        </p:nvPicPr>
        <p:blipFill>
          <a:blip r:embed="rId3"/>
          <a:stretch/>
        </p:blipFill>
        <p:spPr>
          <a:xfrm>
            <a:off x="5791320" y="3276720"/>
            <a:ext cx="1938240" cy="1582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http://www.geneticarchaeology.com/Images/04-07LizardBuckleyLrg.jpg"/>
          <p:cNvPicPr/>
          <p:nvPr/>
        </p:nvPicPr>
        <p:blipFill>
          <a:blip r:embed="rId4"/>
          <a:stretch/>
        </p:blipFill>
        <p:spPr>
          <a:xfrm>
            <a:off x="5334120" y="5029200"/>
            <a:ext cx="2217600" cy="15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ot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 Desktop Wallpaper-s &gt; Nature &gt; Cap Juluca, Maunday's Bay, Anguilla, Caribbe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6002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027"/>
          <p:cNvSpPr/>
          <p:nvPr/>
        </p:nvSpPr>
        <p:spPr>
          <a:xfrm>
            <a:off x="762120" y="380988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hoto shows a part of a Caribbean beach and the oce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29"/>
          <p:cNvSpPr/>
          <p:nvPr/>
        </p:nvSpPr>
        <p:spPr>
          <a:xfrm>
            <a:off x="3733920" y="2286000"/>
            <a:ext cx="213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hoto shows many fresh fruits found in the Caribbe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31"/>
          <p:cNvSpPr/>
          <p:nvPr/>
        </p:nvSpPr>
        <p:spPr>
          <a:xfrm>
            <a:off x="6705720" y="5257800"/>
            <a:ext cx="1752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photo of a women’s dress typically worn in the Caribbe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33" descr="http://www.baliclothingexporter.com/sarong-clothing-manufacturer-bali-indonesia/company-online-discount-dress-001.jpg"/>
          <p:cNvPicPr/>
          <p:nvPr/>
        </p:nvPicPr>
        <p:blipFill>
          <a:blip r:embed="rId3"/>
          <a:stretch/>
        </p:blipFill>
        <p:spPr>
          <a:xfrm>
            <a:off x="6781680" y="1143000"/>
            <a:ext cx="1371600" cy="3728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35" descr="http://www.everything-panama.com/images/fruit2.jpg"/>
          <p:cNvPicPr/>
          <p:nvPr/>
        </p:nvPicPr>
        <p:blipFill>
          <a:blip r:embed="rId4"/>
          <a:stretch/>
        </p:blipFill>
        <p:spPr>
          <a:xfrm>
            <a:off x="3809880" y="3657600"/>
            <a:ext cx="231480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pular Auth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uth Behar: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he Vulnerable Observer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book is a nove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ime Cesaire: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he Collected Poetr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is a book of poe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saria Ferre: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ccentric Neighborhood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book is a nove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The Vulnerable Observer by Ruth Beha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1476360"/>
            <a:ext cx="1371600" cy="2111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Aime Cesaire Poem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4760" y="4038480"/>
            <a:ext cx="1603440" cy="2362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http://www.caribbeaninspired.com/caribbean/books/affs/eccentric.jpg"/>
          <p:cNvPicPr/>
          <p:nvPr/>
        </p:nvPicPr>
        <p:blipFill>
          <a:blip r:embed="rId5"/>
          <a:stretch/>
        </p:blipFill>
        <p:spPr>
          <a:xfrm>
            <a:off x="4929120" y="2819520"/>
            <a:ext cx="139068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vernment of Jama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Jamaica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a parliamentary democratic monarc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means to the people that they have free speech, press, movement, and assoc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ir legal traditions are closely related to United Kingdo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ral elections are held every 5 yea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rgest Cities in Hai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rt-au-Pri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refo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lmas 7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http://t2.gstatic.com/images?q=tbn:ANd9GcRsNVvNHlXVdwRdKv0cc8gh8v_IHYSigCGiPteFmNZcHgOVcNxM"/>
          <p:cNvPicPr/>
          <p:nvPr/>
        </p:nvPicPr>
        <p:blipFill>
          <a:blip r:embed="rId1"/>
          <a:stretch/>
        </p:blipFill>
        <p:spPr>
          <a:xfrm>
            <a:off x="5181480" y="1295280"/>
            <a:ext cx="1905120" cy="1279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http://t3.gstatic.com/images?q=tbn:ANd9GcQGxzsk9jkyN9-sTiot8LVpQcgp3eG4VdCAEZ4kNg6sOQGYea7Y"/>
          <p:cNvPicPr/>
          <p:nvPr/>
        </p:nvPicPr>
        <p:blipFill>
          <a:blip r:embed="rId2"/>
          <a:stretch/>
        </p:blipFill>
        <p:spPr>
          <a:xfrm>
            <a:off x="3733920" y="2971800"/>
            <a:ext cx="2286000" cy="1406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ttp://t3.gstatic.com/images?q=tbn:ANd9GcQl-nv29NTOfDNFfyI5LUEl7fxJ5cj0yQDrh2ZZjxrkIKUokYHFTg"/>
          <p:cNvPicPr/>
          <p:nvPr/>
        </p:nvPicPr>
        <p:blipFill>
          <a:blip r:embed="rId3"/>
          <a:stretch/>
        </p:blipFill>
        <p:spPr>
          <a:xfrm>
            <a:off x="5715000" y="4800600"/>
            <a:ext cx="240048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l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aribbean is a mix of African, Indian, and European cul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ir culture involves lots of music, architecture, and attitud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anguage that people in the Caribbean is Creole langua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urist Attra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wimming with the stingr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ek through the rain forest in Domin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. Lucia Jazz Festiv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http://t2.gstatic.com/images?q=tbn:ANd9GcQG97BC6-yqvpNAs9dhBkx0nwRGoV5isKln0K5Dza5w3akWOTbotjcG5Z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7800" y="1295280"/>
            <a:ext cx="2209680" cy="1484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http://t2.gstatic.com/images?q=tbn:ANd9GcSpFdtHBQ5u2yrqzls4y1p23Q9hKMnLN4fvjsOuZlXsAe4DcDkrr_B-I-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19720" y="29718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http://t1.gstatic.com/images?q=tbn:ANd9GcTbQ4T2-LS58pur-Xlt3DXt1WylSXhu0VR5rOVkGTIfkPUq492ICdwdKg_O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553080" y="4495680"/>
            <a:ext cx="204948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amaica was under British rule for over 300 yea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aribbean customs are a lot like the United Kingdom’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aribbean was known for its pirates from 1640 to 168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1031" descr="Caribbean History"/>
          <p:cNvPicPr/>
          <p:nvPr/>
        </p:nvPicPr>
        <p:blipFill>
          <a:blip r:embed="rId1"/>
          <a:stretch/>
        </p:blipFill>
        <p:spPr>
          <a:xfrm>
            <a:off x="5181480" y="1752480"/>
            <a:ext cx="2328840" cy="1752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http://t2.gstatic.com/images?q=tbn:ANd9GcTeU5hzX1vkyh8Tayla7T77TyfabnoFuZFItXB6tVlBSpuR7pjt0MOTZ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4120" y="3962520"/>
            <a:ext cx="243828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1T19:35:57Z</dcterms:created>
  <dc:creator>954250</dc:creator>
  <dc:description/>
  <dc:language>en-US</dc:language>
  <cp:lastModifiedBy>JSEAQUIS</cp:lastModifiedBy>
  <cp:lastPrinted>2011-02-02T16:52:12Z</cp:lastPrinted>
  <dcterms:modified xsi:type="dcterms:W3CDTF">2011-02-10T21:26:19Z</dcterms:modified>
  <cp:revision>11</cp:revision>
  <dc:subject/>
  <dc:title>Caribbean</dc:title>
</cp:coreProperties>
</file>